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C3B-613B-4416-A013-95CA62C2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A36-8D01-48F2-91D8-FC948CA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C319F-72B3-41C6-9B51-1496DA2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9142-C51D-46DB-BB3E-B50ACB97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AE1EC-94D9-4D90-80E1-F185990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48C9A-1BCA-49A4-8BCA-7DED622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2B07-B18D-49C6-9226-BA1BE31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26679-346D-4641-834E-7556EE75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E2C06-6D3D-4B84-B264-F78FFEC6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B09B-5F31-4FBA-A407-6AF55141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CE97-4588-4E62-ABA8-CC3FA0E1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1CEE6-DC6A-4E74-A498-3378A76D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6E7-1DCB-4023-A9B9-8D8C852A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F631-20F3-4D63-B0D6-EF956CD2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983F-11BF-44EF-BB90-4F7C71F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8542-23A0-4E43-B53A-9C7ABBC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2F205-317F-4523-BC60-E8D7F84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165EE-10EC-4595-A4D9-393C026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017EB-EDA0-499A-8E5E-9ABF5B56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6CF9-0744-4948-8A19-E11B6F0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C7EB8-34BF-4B9F-88FE-286E5A1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3E46A-1635-4A33-A51D-64BC9AF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97CEA-136B-46BD-9C93-4B632CD8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FC3-450E-41FB-B4B9-481DE0B5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E04D3-BCF5-4BDC-A4B7-72096DB5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2DBA0-D814-4AD8-9CAF-DCEC0236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FC650-DBAE-4F00-94EF-AFB7B30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CE3FF-65A2-4E29-9355-2E388EFB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9561-EE77-4B75-AE7F-27E6DDF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5BB0F-E172-4C7A-8961-DDCB01A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A816-98E2-4842-A0A8-3D0E5B0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18833-C3A1-40CF-BD56-74BBBCC7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CC060-84B0-425B-B839-C094894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4CD21-B2BD-4B9B-BA26-7294E76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7E05-4B46-4B64-8473-A36F532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A5E27-6F93-41F0-A44B-D8BE11B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38D6-0EE8-473E-B8B9-BDD317ED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0D7CF-DBC7-40FD-AE51-2784464C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C2276-D95E-400B-9341-74ADC0AE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A02C4-55AD-45A1-B204-8FCB223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8BB67-6563-40D5-B0B9-8135FE8F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60005-4E59-4045-842B-183D9F77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48F41-36CE-4089-A44F-4F9B671A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50A5C-E67D-4390-AB85-34F3C27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31C37-1A4A-4411-B29E-1BE61B8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686-124C-4434-BA3D-489BCB39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92F44-74BF-4682-AC89-075F681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03F0B-EEA5-406E-BE22-E1FCE20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F6876-D274-44CC-84B8-A105C3CB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D3830-54F7-413F-A3CD-EB3F99FC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B0E9C-2AA5-477B-B27D-FEDE3087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E9D5F-3635-40EB-A12A-2518F4A5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36723-ADB9-4B61-BEAB-AA8A4F2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058AB-7C88-46BF-A66A-40549C7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1AEB2-7B46-48E8-A6A5-AFFF7F7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580E5-FBD1-4F5E-B4D6-62243DF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2F4-A897-4646-8DDC-7A41324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20E88-CF75-4164-9D27-C1A45BB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FEA44-6479-4929-ADCA-9BBB2803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F5D12-DEB5-4F5A-8CF3-4817A435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A4B66-A0C0-4DD2-BDE8-866ED2A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91120-CFA5-4A48-B439-EF4D53C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30F98-83C3-4103-A490-5BEE0F2C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B42D8-FBD8-47FC-904A-F8E9ACA2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10663-1997-4FCA-BA9A-F0117363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CC075-1626-431C-92B7-1BDC635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93206-3830-4C92-84C3-66A08EC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5092-7B3A-4665-82E3-7893734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1F5D3-580D-4491-A892-4945E64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874F6-15D6-4088-B387-4EA75A6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65797-4CFB-4931-85FD-686FF93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C2763-5670-4BF8-8046-C667963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07A2E-044C-47F7-BEC3-AE2DA44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9C1C9-FA43-424F-9C2E-D7DE704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907C9-F810-4B6E-804B-452D327B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B3666-8D23-4D5A-9D01-0432CAA0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643B4-8023-454C-8218-715AB4B9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A762A-050E-4033-B79E-690A52A9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CB57-701D-448E-986D-3D56DAE6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D4629-F26F-4660-B19C-8D8ABBE9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89401-DC6F-4A63-98E1-A20CFA1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D8005-CA44-4F5D-97E5-2915533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C8219-1A7C-483D-95A8-8981CD2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84B6B-C426-4681-A85A-99D9B02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786D5-4B88-475C-8CD2-8988D7A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D41E4-55BE-41AC-A4AF-4A0F166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5EBD0-17A0-47F7-A5D9-2374567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F526D-4A77-41E9-AD1C-56EEBC5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2FE70-4B87-4DCD-BF8E-4BEE1C11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0C1-80D5-4496-AC9D-96FA3621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04B08-9993-4537-A860-15343911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CDEC-0947-4752-8FCD-9FE98A9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B3F-D04D-4DFE-AEE8-5FD4DF98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AAC-F13A-4528-86FC-DF9D33B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BFF-523B-488C-975A-A48DEC9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302-8682-40B9-B7B6-22156DC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7321-D98A-4135-B173-3C49101C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0EA9-0C05-4B86-91CD-ACB7D8C9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6C9E-201A-4BF3-B0A2-6BB96AC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29DB-9711-4D78-813A-D096007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E968-E2F5-4678-9A75-833FCE12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BAE6-12F1-464B-9444-98A7A1A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F244-585B-422D-8D9D-F61EF1D1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FC7-1111-4558-8ADE-61E3EE77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4AA5-8337-4807-9677-02B90B58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99FB-CFCA-428D-A886-2CD3AE4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ED76-CBD3-4758-9D28-2E5EC65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B33F-933B-4D8D-8A67-442310F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7660-2B6C-4844-91B4-4A16E50A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A381-08BC-44E7-AAA3-8208C00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D67D-95D3-41BC-9783-67036374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218B-30BE-4792-B728-212E3E06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E277-073C-46D6-B648-561559B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0D5D1-F8C8-42F5-891B-32BC26D7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4A0-1AAA-4371-89C8-7752018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1434-360B-46ED-AB75-F4A4515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333E-A72B-4EEB-83AA-A82F4E43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C8D9-F57A-4A24-AC7B-1F45D06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CE66-E6BE-4D14-B135-84E93F7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0473-A62A-4C4F-9B7F-C9B4F43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D7AE-6D34-4609-9452-42C9769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3288-4FD0-4459-A510-D88548B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3E1B4-DF08-4ED7-AB19-0E91B775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2E4E-1718-4BE2-8D84-D99CB52D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A624-6D3D-44F5-B021-C5641058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9C-DC0A-48B2-AE0D-19143ECB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D95B-E085-447E-A8DC-C253D21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8DC4-67F2-40EA-AF54-B2EAD51C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3EBB-9947-4C61-A016-355DC664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E90F-CC6F-413C-9003-B66F0F2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7043-8168-495D-AD24-C82820F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A157-93B0-4D4B-8A61-2F650FD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1B92-701B-499B-A14C-928C2E6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9B1C-0A2C-45E5-AA7C-A8B5009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D18E-013E-46D9-BCB4-0BAFF9E7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7E97-9455-4602-AB2A-ACE68211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E4D-DEB2-437C-9E73-800552BB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5B4E4-51C2-4EB9-860F-6D3AF540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D29E-FE61-4944-9058-70756AE6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1FFD-819C-4D81-BBFB-E32AED89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8FEC7-A25D-44AA-B72C-6375A57E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2F1F-D038-4ED3-91AA-4FA531A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4289-442B-4461-A826-4DD403B6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8053-8289-44B2-95C6-16A6000B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252D-507E-4459-8CBA-6D26C59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7301-92C9-489D-8BF1-9828BCD4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F05D-62A1-4B7A-8AFB-5AF6ED6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9A4-20D4-41AE-A228-CCCE4DF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68EE-94F3-463C-9C6A-1E77EF2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1D59-DE7A-4527-9FE4-F7CEC964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6F0C-4FFA-447B-B198-2E0CCD8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E2C9-8542-49D5-8D2F-FF1F8CF6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A28F-FBAD-451C-8D8A-060D800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B2DD-09AC-4F7F-8CD5-F590C13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C581-6635-4500-A6D8-A68D31EB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477D-C385-408B-999C-4C438CF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9ADF-9358-45EC-AB3C-C889F35A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31BB-D0E6-45FF-9592-5F2CE78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DE7-BD85-4715-8B41-A1D2AE2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E44AF-EE15-4EB2-8328-FE9DF0D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018F-C00E-4689-8B70-93DC038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7C581-F560-4BB1-B5FA-906B42C8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DBCD-147D-4E34-9ECC-3AF81BB0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D669-4A21-4997-98BD-FBEFB1E1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4F98-9E21-4CC3-A9CA-E7269D46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697B7-B4D3-4AD6-A3EA-94537A7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C14F-E5DD-478E-92CC-D1FF982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1925-CC59-4F0A-9C96-0DFF75A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57DE7-670E-4578-B087-88C5645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6F4-CD16-485B-9180-2BB9B09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BF30-8545-4703-9316-272C270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A7CC4-2B90-45B5-A65B-FC0BED3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F90D-8517-4A11-982E-4490CB3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6313-4637-446F-8C41-174ADB5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17BF-F0EA-4B7C-8BFB-782957E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D2C26-58C3-4B19-953E-2CAE6A99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3EEC7-61C3-4C9F-9A57-55BA7D14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FE52-3EC9-40D4-9DBD-A5BA0517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C8B01-B93D-4147-9F31-A064E0E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F05E-F765-4F13-B984-0ECE976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F5E-43AF-4FD4-8429-561454D4725B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2981-6CD1-484B-A4E3-25E02E9AA509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19C-C120-4C40-BDD6-87906FF3A8B5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2E1-FCFD-409D-A091-4A766EDCB513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1E4-CAEA-41E7-AB19-7E2CDDF30308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A7-28A7-4000-BF07-A1F486307EA3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CBE3-1585-427E-90E3-4976DF7A2D48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1dedf"/>
              </a:gs>
              <a:gs pos="100000">
                <a:srgbClr val="bace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8BD4-5A59-4D22-858C-D4EB7CDBDCFF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44D-1C2C-4694-B592-E42FE3F1A90F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edc1b6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235-A1FD-44FB-B5AA-200FC34AB42C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FF1-40F3-46FC-BBF0-FD2D41A55C6E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209-A648-49A8-B90E-30188B790A8F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487C-A254-459D-B98C-BC42D101BA31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cadae"/>
              </a:gs>
              <a:gs pos="100000">
                <a:srgbClr val="8cadae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924-3FA3-4925-8324-02F93BF5059D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d16349"/>
              </a:gs>
              <a:gs pos="100000">
                <a:srgbClr val="d1634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2C0-53F6-4BE8-B564-B1CA26DE9F40}" type="slidenum">
              <a:rPr b="1" lang="ro-RO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0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19320" y="1371600"/>
            <a:ext cx="723888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Gill Sans MT"/>
              </a:rPr>
              <a:t>        </a:t>
            </a:r>
            <a:r>
              <a:rPr b="0" lang="ro-RO" sz="9600" spc="-1" strike="noStrike">
                <a:solidFill>
                  <a:srgbClr val="ff0000"/>
                </a:solidFill>
                <a:latin typeface="Gill Sans MT"/>
              </a:rPr>
              <a:t>M6</a:t>
            </a:r>
            <a:endParaRPr b="0" lang="en-US" sz="9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000" spc="-1" strike="noStrike">
              <a:solidFill>
                <a:srgbClr val="c5d1d7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o-RO" sz="3200" spc="-1" strike="noStrike">
                <a:solidFill>
                  <a:srgbClr val="e3a192"/>
                </a:solidFill>
                <a:latin typeface="Gill Sans MT"/>
              </a:rPr>
              <a:t>Le  programme sont 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ill Sans MT"/>
              </a:rPr>
              <a:t>-comedi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ill Sans MT"/>
              </a:rPr>
              <a:t>-dram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ac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divertis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LA  FRANCE  A  UN  INCOROYABLE  TAL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648320" y="1752120"/>
            <a:ext cx="403848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d1634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7" descr="C:\Users\Elev\Desktop\27813_10150177710080277_422256495276_12562052_2473026_n.jpg"/>
          <p:cNvPicPr/>
          <p:nvPr/>
        </p:nvPicPr>
        <p:blipFill>
          <a:blip r:embed="rId1"/>
          <a:stretch/>
        </p:blipFill>
        <p:spPr>
          <a:xfrm>
            <a:off x="4819680" y="1525680"/>
            <a:ext cx="4343400" cy="5332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" descr="C:\Users\Elev\Desktop\La-France-a-un-incroyable-talent.jpg"/>
          <p:cNvPicPr/>
          <p:nvPr/>
        </p:nvPicPr>
        <p:blipFill>
          <a:blip r:embed="rId2"/>
          <a:stretch/>
        </p:blipFill>
        <p:spPr>
          <a:xfrm>
            <a:off x="36360" y="1523880"/>
            <a:ext cx="4800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INFORMATIONS GENERAL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0" name="Rectangle 4" descr=""/>
          <p:cNvPicPr/>
          <p:nvPr/>
        </p:nvPicPr>
        <p:blipFill>
          <a:blip r:embed="rId1"/>
          <a:stretch/>
        </p:blipFill>
        <p:spPr>
          <a:xfrm>
            <a:off x="176040" y="1420920"/>
            <a:ext cx="4395960" cy="536400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Picture 1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25606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"/>
          <p:cNvPicPr/>
          <p:nvPr/>
        </p:nvPicPr>
        <p:blipFill>
          <a:blip r:embed="rId3"/>
          <a:stretch/>
        </p:blipFill>
        <p:spPr>
          <a:xfrm>
            <a:off x="4495680" y="3780000"/>
            <a:ext cx="46483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Gill Sans MT"/>
              </a:rPr>
              <a:t>                  </a:t>
            </a:r>
            <a:r>
              <a:rPr b="0" lang="en-US" sz="5400" spc="-1" strike="noStrike">
                <a:solidFill>
                  <a:srgbClr val="0070c0"/>
                </a:solidFill>
                <a:latin typeface="Gill Sans MT"/>
              </a:rPr>
              <a:t>SERIAL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52280" y="167652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MT"/>
              </a:rPr>
              <a:t>Le film ,,Que  va-t-il se passer  mardi soir?”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 rot="327000">
            <a:off x="7432200" y="769680"/>
            <a:ext cx="1528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185"/>
                </a:solidFill>
                <a:latin typeface="Gill Sans MT"/>
              </a:rPr>
              <a:t>LE  EMISION  QUI  AIME  EST  ,,LA  FRANCE  A  UN INCOROYABLE  TAL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31" name="Content Placeholder 1" descr=""/>
          <p:cNvPicPr/>
          <p:nvPr/>
        </p:nvPicPr>
        <p:blipFill>
          <a:blip r:embed="rId1"/>
          <a:stretch/>
        </p:blipFill>
        <p:spPr>
          <a:xfrm rot="2068200">
            <a:off x="-1440" y="1802880"/>
            <a:ext cx="2425680" cy="1636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"/>
          <p:cNvPicPr/>
          <p:nvPr/>
        </p:nvPicPr>
        <p:blipFill>
          <a:blip r:embed="rId2"/>
          <a:stretch/>
        </p:blipFill>
        <p:spPr>
          <a:xfrm>
            <a:off x="457200" y="4567320"/>
            <a:ext cx="3124080" cy="2292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3" descr=""/>
          <p:cNvPicPr/>
          <p:nvPr/>
        </p:nvPicPr>
        <p:blipFill>
          <a:blip r:embed="rId3"/>
          <a:stretch/>
        </p:blipFill>
        <p:spPr>
          <a:xfrm rot="1650600">
            <a:off x="6360840" y="2026800"/>
            <a:ext cx="2413080" cy="21668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" descr=""/>
          <p:cNvPicPr/>
          <p:nvPr/>
        </p:nvPicPr>
        <p:blipFill>
          <a:blip r:embed="rId4"/>
          <a:stretch/>
        </p:blipFill>
        <p:spPr>
          <a:xfrm>
            <a:off x="2362320" y="1652760"/>
            <a:ext cx="4419360" cy="2914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5"/>
          <a:stretch/>
        </p:blipFill>
        <p:spPr>
          <a:xfrm>
            <a:off x="5789520" y="4567320"/>
            <a:ext cx="3348000" cy="22921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"/>
          <p:cNvPicPr/>
          <p:nvPr/>
        </p:nvPicPr>
        <p:blipFill>
          <a:blip r:embed="rId6"/>
          <a:stretch/>
        </p:blipFill>
        <p:spPr>
          <a:xfrm>
            <a:off x="3352680" y="4567320"/>
            <a:ext cx="24386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192"/>
                </a:solidFill>
                <a:latin typeface="Gill Sans MT"/>
              </a:rPr>
              <a:t>PARCE  QUE   CETTE  EMISION  EST   TRES  INTERESSANTE   PARCE QUE  LE FRANCAIS   ZIEUTER  AVEC  PLASER  A CETTE  EMISI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38" name="Content Placeholder 1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5943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v</dc:creator>
  <dc:description/>
  <dc:language>en-US</dc:language>
  <cp:lastModifiedBy>Bia</cp:lastModifiedBy>
  <dcterms:modified xsi:type="dcterms:W3CDTF">2011-10-29T12:59:1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